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738-B2BB-4E9F-B5D8-84550FE4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8BD-2348-4FDB-A7C1-A01EFED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602-E2CF-4873-AE09-9A412E83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593-E126-40EA-BA24-5DACCE8A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18A-D356-484D-BF42-CC1A697A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259D-8793-4A6D-BA12-D5DB2EB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C35-0FA3-4317-9B40-903D57D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004-26D9-4968-B9C1-3180ADA4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A4C-28DD-4DC8-A9FA-0AF3101E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A9F-60BA-4EFB-9E03-6F927EA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A26C-8FCD-45E7-9BF2-134EBCC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C2B-0DF9-4BAA-BB77-A01EDBF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3D9-25D5-4121-971D-4922F1CA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2D8-BAAC-4E03-B604-0DD1899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A74B-5210-4F11-BD73-7349F4B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72C-C273-414C-BA9D-224BB666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45F9-0625-4D27-AEF2-285BD58B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444-3E1F-42C5-B2B9-995BBF51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EC0-83EF-4C21-B611-74CDFCBF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D88-4874-478E-9EDB-19EC32E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738-5626-4F43-A7DC-EA59C71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D44-67C9-4C34-84A7-935F1EA7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067-1410-4470-8302-96FFC94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398-7C0B-4C13-B1AE-0A8E132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3A4-2845-4790-AA0D-74C988D4B9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516-A979-4A02-923D-0BE36F94C0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2120" y="-54000"/>
            <a:ext cx="10820520" cy="698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Persisten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Organic Pollu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71560" y="1719360"/>
            <a:ext cx="728172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 TAS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vide up into groups of 3 or 4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eate a summarized PowerPoint slide (1-3 slides) on your assigned topic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te all the main points and use photos/images if appl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523880"/>
            <a:ext cx="7848360" cy="62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1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o is the WWF &amp; What is the “Precautionary Principle”? (Internet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p. 1 -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2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are the effects of POP’s on wildlife? (pp. 1-6, 7-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3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are the effects of POP’s on people? (pp. 1-6, 9-1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4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is “obsolete stockpiling” and what is a suggested  solution to the POP problem? (pp. 1-6, 14-1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381400"/>
            <a:ext cx="82296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cals that were developed to control disease, increase food production, and improve our standard of living are… a threat to biodiversity and human heal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W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82296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t Organic Pollutants are carbon-based compounds and mix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tic chemicals that resist the normal processes of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duction and release of vast quantities of these novel synthetic chemicals over the past 75 years (since WWII) has proved to be a great global experiment - one that now involves al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05120"/>
            <a:ext cx="82296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t Organic Pollutants share four common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accumulation (Affinity for f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distance trave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319040"/>
            <a:ext cx="4226040" cy="5386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26384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they use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666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they use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434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71960" y="1447920"/>
            <a:ext cx="284796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15000" cy="450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490760"/>
            <a:ext cx="6095880" cy="47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3:24:02Z</dcterms:created>
  <dc:creator>pgrant</dc:creator>
  <dc:description/>
  <dc:language>en-US</dc:language>
  <cp:lastModifiedBy>pgrant</cp:lastModifiedBy>
  <dcterms:modified xsi:type="dcterms:W3CDTF">2005-03-18T16:13:50Z</dcterms:modified>
  <cp:revision>12</cp:revision>
  <dc:subject/>
  <dc:title>Slide 1</dc:title>
</cp:coreProperties>
</file>